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BFDB-6FD7-4141-89EA-E7EF82F7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76F-2551-4024-8E05-A9A1FB42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797-346E-4B9C-B19E-C6E9C1B7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FB37-20F9-4266-B786-0A820061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9E2A-107B-4B2D-9F54-8AE3A3BD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3C90-1370-4FA1-BB15-8DDB4457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5A37-FD7A-4B13-9FD8-9B5581E4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84BD-B7D0-4308-B7EB-F0CEBE2A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378C-46F4-4E47-B403-62C47B3E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BDBB-BDDA-4AF1-9925-5818ABBD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4A3C-2BC3-431F-933A-95896668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4E12-6F0C-4BD2-963C-E64171AE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897B-7D05-4AB2-917D-D7A5F16F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4E83-930D-4134-B570-12A9870E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6D95-0122-403D-ADD3-F0B819F9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C9C5-C47D-47A9-A61A-F7503DF3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515A-CCDC-4288-96D0-E2C75F23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2D526-D0B7-4D85-B12A-65BF95A4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5B962-5DEA-4E53-93A9-94A4B672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DC433-8956-48AF-99C2-7B040FCC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468E1-0E40-405D-87A5-1DDE2C55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EAC8B-4A1D-4C9A-B4ED-360ABF96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38BE-01AF-4D62-B88C-F314334C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9A35F-1351-4CEF-8003-89DB34C3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A7C29-26B3-4F07-A41F-801314E6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F0BF4-51BC-4149-86CD-AA7FD9CB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562BC-666E-43A2-9C8E-A2C63F6C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D6464-997F-49FA-ABF7-EB606E2F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B4DB2-F57C-45E8-A7B9-6F293498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9EEC1-682D-4F61-8E33-2F19F289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C243F-EC6D-4525-A9C6-B09BBAA7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62729-BA15-444A-81DC-DCE29F11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55E84-C476-41C4-A808-2337D154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A5C-AD00-4779-9BC4-09790B9F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24FEF-A68D-44FB-9239-BC4DD85B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7C306-7B6E-4185-BE72-E9CF763E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D4707-70CE-40ED-8AB4-73D41061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6584F-8161-4982-AFF3-46799F34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4F54C-35DD-4117-AB88-249716CA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D5283-F176-430C-89ED-0413FEE8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20E60-7775-4009-BCC0-CDCF9B05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8D20D-4BC0-481E-9F7B-B357AAA3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FFFFA-CD96-4796-960D-53C58301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6D34-951A-4FCD-A1BD-2F350818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0964-0E78-4F6D-A0A6-8A378308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246F-99EB-43D8-A76E-1B5E9D51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6FC-5FCD-400A-BB3D-4F77D76D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A491-EB05-4A22-806A-4E4DE84F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95480"/>
            <a:ext cx="9161640" cy="3961080"/>
            <a:chOff x="0" y="2895480"/>
            <a:chExt cx="9161640" cy="3961080"/>
          </a:xfrm>
        </p:grpSpPr>
        <p:sp>
          <p:nvSpPr>
            <p:cNvPr id="1" name="Rectangle 3"/>
            <p:cNvSpPr/>
            <p:nvPr/>
          </p:nvSpPr>
          <p:spPr>
            <a:xfrm>
              <a:off x="0" y="6181560"/>
              <a:ext cx="9142560" cy="675000"/>
            </a:xfrm>
            <a:prstGeom prst="rect">
              <a:avLst/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254480" y="2895480"/>
              <a:ext cx="4907160" cy="3845160"/>
              <a:chOff x="4254480" y="2895480"/>
              <a:chExt cx="4907160" cy="384516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6518160" y="2895480"/>
                <a:ext cx="2643480" cy="2698920"/>
                <a:chOff x="6518160" y="2895480"/>
                <a:chExt cx="2643480" cy="269892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6518160" y="2898720"/>
                  <a:ext cx="1495440" cy="1206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6681960" y="3936960"/>
                  <a:ext cx="1161720" cy="1657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" name="Freeform 8"/>
                <p:cNvSpPr/>
                <p:nvPr/>
              </p:nvSpPr>
              <p:spPr>
                <a:xfrm>
                  <a:off x="7591320" y="2895480"/>
                  <a:ext cx="1086120" cy="2694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" name="Freeform 9"/>
                <p:cNvSpPr/>
                <p:nvPr/>
              </p:nvSpPr>
              <p:spPr>
                <a:xfrm>
                  <a:off x="7873920" y="3365640"/>
                  <a:ext cx="1287720" cy="1206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" name="Freeform 10"/>
                <p:cNvSpPr/>
                <p:nvPr/>
              </p:nvSpPr>
              <p:spPr>
                <a:xfrm>
                  <a:off x="8072280" y="4229280"/>
                  <a:ext cx="384480" cy="855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" name="Freeform 11"/>
                <p:cNvSpPr/>
                <p:nvPr/>
              </p:nvSpPr>
              <p:spPr>
                <a:xfrm>
                  <a:off x="7978680" y="4448160"/>
                  <a:ext cx="1163880" cy="1131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" name="Freeform 12"/>
              <p:cNvSpPr/>
              <p:nvPr/>
            </p:nvSpPr>
            <p:spPr>
              <a:xfrm>
                <a:off x="6099120" y="5265720"/>
                <a:ext cx="811440" cy="73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254480" y="5540400"/>
                <a:ext cx="4907160" cy="120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384C-D003-4300-9F45-EC897B840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79D4-A82D-4745-BB67-F15AED7514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0" y="990720"/>
            <a:ext cx="9161640" cy="5865840"/>
            <a:chOff x="0" y="990720"/>
            <a:chExt cx="9161640" cy="5865840"/>
          </a:xfrm>
        </p:grpSpPr>
        <p:sp>
          <p:nvSpPr>
            <p:cNvPr id="95" name="Rectangle 3"/>
            <p:cNvSpPr/>
            <p:nvPr/>
          </p:nvSpPr>
          <p:spPr>
            <a:xfrm>
              <a:off x="0" y="6181560"/>
              <a:ext cx="9142560" cy="675000"/>
            </a:xfrm>
            <a:prstGeom prst="rect">
              <a:avLst/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Group 4"/>
            <p:cNvGrpSpPr/>
            <p:nvPr/>
          </p:nvGrpSpPr>
          <p:grpSpPr>
            <a:xfrm>
              <a:off x="1917720" y="990720"/>
              <a:ext cx="7243920" cy="5673600"/>
              <a:chOff x="1917720" y="990720"/>
              <a:chExt cx="7243920" cy="5673600"/>
            </a:xfrm>
          </p:grpSpPr>
          <p:grpSp>
            <p:nvGrpSpPr>
              <p:cNvPr id="97" name="Group 5"/>
              <p:cNvGrpSpPr/>
              <p:nvPr/>
            </p:nvGrpSpPr>
            <p:grpSpPr>
              <a:xfrm>
                <a:off x="5261040" y="990720"/>
                <a:ext cx="3900600" cy="3983040"/>
                <a:chOff x="5261040" y="990720"/>
                <a:chExt cx="3900600" cy="3983040"/>
              </a:xfrm>
            </p:grpSpPr>
            <p:sp>
              <p:nvSpPr>
                <p:cNvPr id="98" name="Freeform 6"/>
                <p:cNvSpPr/>
                <p:nvPr/>
              </p:nvSpPr>
              <p:spPr>
                <a:xfrm>
                  <a:off x="5261040" y="995400"/>
                  <a:ext cx="2205000" cy="1779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7"/>
                <p:cNvSpPr/>
                <p:nvPr/>
              </p:nvSpPr>
              <p:spPr>
                <a:xfrm>
                  <a:off x="5500800" y="2527200"/>
                  <a:ext cx="1714320" cy="244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8"/>
                <p:cNvSpPr/>
                <p:nvPr/>
              </p:nvSpPr>
              <p:spPr>
                <a:xfrm>
                  <a:off x="6843600" y="990720"/>
                  <a:ext cx="1603440" cy="397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9"/>
                <p:cNvSpPr/>
                <p:nvPr/>
              </p:nvSpPr>
              <p:spPr>
                <a:xfrm>
                  <a:off x="7261200" y="1684440"/>
                  <a:ext cx="1900440" cy="1779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10"/>
                <p:cNvSpPr/>
                <p:nvPr/>
              </p:nvSpPr>
              <p:spPr>
                <a:xfrm>
                  <a:off x="7554960" y="2959200"/>
                  <a:ext cx="566640" cy="126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1"/>
                <p:cNvSpPr/>
                <p:nvPr/>
              </p:nvSpPr>
              <p:spPr>
                <a:xfrm>
                  <a:off x="7416720" y="3281400"/>
                  <a:ext cx="1717920" cy="1670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Freeform 12"/>
              <p:cNvSpPr/>
              <p:nvPr/>
            </p:nvSpPr>
            <p:spPr>
              <a:xfrm>
                <a:off x="4641840" y="4487760"/>
                <a:ext cx="1197000" cy="108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13"/>
              <p:cNvSpPr/>
              <p:nvPr/>
            </p:nvSpPr>
            <p:spPr>
              <a:xfrm>
                <a:off x="1917720" y="4894200"/>
                <a:ext cx="7243920" cy="177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6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30BB-CAB5-4C8C-AB68-B22C61454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6E7B-635E-4EB0-9D4E-E8DDF85BE9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nderstanding and Increasing Student Motivation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335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Ogle, P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artment of Psych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Example: Relating</a:t>
            </a: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writing assignments or discu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 movie you have seen in the last 6 months to explain or describe a conc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 TV show now and from your child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contemporary movies to show illustrative cl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reas of commonality around issues important to students.  Use these areas in your l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ourse Design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out what drives them and adjust the course according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ir interests to devise examples and assign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students have some say in choosing what will be stud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 topics for deeper exam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pers, pro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-emphasize grades and emphasize mas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o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y your teaching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bates, guest speakers, av, small group wor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course difficulty as the semester prog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opportunities to succeed ear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Example: Importance/Confidence</a:t>
            </a:r>
            <a:endParaRPr b="0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done as part of getting studen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10 scale of Impor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10 scale conf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 X and not a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n you do to increase X to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n I do to increase X to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barriers are in your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Example: Student Generated Syllabus</a:t>
            </a:r>
            <a:endParaRPr b="0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an example with goals and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up a smorgasbord of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say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Choice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urn it in for your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well for smaller clas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Extrinsic Rewards 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students feedback as quickly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ward behaviors that you des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t quizz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rather than fewer tests when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Rewarding Desired Behavior</a:t>
            </a:r>
            <a:br>
              <a:rPr sz="4000"/>
            </a:b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 Reading Assignments</a:t>
            </a:r>
            <a:endParaRPr b="0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ival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turn in 3X5 cards of notes they took on selected reading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reading as u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cards to students on the day of the test to use on the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mp or mark the card so that you know it is the card you gave to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Word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generate a single word that encompasses the readings and write up to a page defending their word choic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Rewarding Desired Behavior Attendance</a:t>
            </a: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reaction pa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ly distribute assignments through semester.  These are part of the grade, not extra cre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 a helpful point value (3 – 5 poi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opics that are of interest and related to the 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m to gauge the understanding of a concept, to get info for an upcoming lecture, to help students think crit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responses anonymously in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Rewarding Desired Behavior</a:t>
            </a:r>
            <a:br>
              <a:rPr sz="4000"/>
            </a:b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 Preparing for Class </a:t>
            </a:r>
            <a:endParaRPr b="0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opardy Game – Helps you with boring material or material your don’t know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read and take notes on material to be cov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write Jeopardy style questions (answers) to turn into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reate Jeopardy style game with those questions.  You may have to write some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 the game is 3 or more groups.  Keep sc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ing in notes get some EC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ning team gets some EC poi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A Great Resource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ss-Davis, B. (1993)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ols for Teaching. San Francisc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Jossey-B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Out of Class Interactions</a:t>
            </a:r>
            <a:endParaRPr b="0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do not come to your office for you to talk to them.  They show up because they want you to l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 minutes of active listening gets you more than 30 minutes of preaching or lect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al is for the student to articulate to reasons to succeed and for you to tie in their reason to the behaviors you des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Definition of Motivation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tudent's willingness, need, desire and compulsion to participate in, and be successful in, the learning process" (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hlinkClick r:id="rId1" action="ppaction://hlinksldjump"/>
              </a:rPr>
              <a:t>Bomia et al., 19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p. 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ivated students "select tasks at the border of their competencies, initiate action when given the opportunity, and exert intense effort and concentration in the implementation of learning tasks; they show generally positive emotions during ongoing action, including enthusiasm, optimism, curiosity, and interest" (p. 3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motivated or disengaged students, on the other hand, "are passive, do not try hard, and give up easily in the face of challenges" (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hlinkClick r:id="rId2" action="ppaction://hlinksldjump"/>
              </a:rPr>
              <a:t>Skinner &amp; Belmont, 199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p. 4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Active Listening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listener, you are a mirror; a mirror with a tw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reflection and open-ended questions to understand what motivates and reinforces the stud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what you h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 the goals of the class with the students motivators and reinfor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Active Listening Flowchar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with open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n and ref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what you hear or what you want them to he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key/evocative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a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 again to evalu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ake Home Message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 and share your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in terms of importance and confidence for you and your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but do not over-use extrinsic re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ize as much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n as much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your agenda through their e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e Nature of Motivation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 is not dichotom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tle utility in thinking a student “is” or “is not” motiv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 is dynamic and contin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a probability that an individual will engage in and maintain a certain acti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 is therefore subject to numerous fact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ors have no effect on some factors but may have significant effects on other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ypes of Motivation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rin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aging in behavior to attain a reward or to avoid a punishment from an external sou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in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aging in behavior out of curiosity, sense challenge and an internal sense of grat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Influential Factor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ived usefu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level of achievement mo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efficacy,Self-confidence, Perceive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ist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or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A Simple Way to Break it Down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mportant is doing wel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mportant is doing the wor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mportant is the cla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efficacy for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efficacy for evaluation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esearch on Student Motivation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-reliance on extrinsic motivators can decrease achievement and student perceptions of mo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er intrinsic motivation is associated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achie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confid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er retention of concepts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ome Points of Intervention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se design and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rinsic reward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students come to talk with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Your Style 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 context where you relate to them do not force them to relate to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d high but realistic expec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language of community not sepa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students what they need to do in order to be successful in your 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enthusia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hum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creating intense competition between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using grades as thre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6:15:51Z</dcterms:created>
  <dc:creator>Psychology</dc:creator>
  <dc:description/>
  <dc:language>en-US</dc:language>
  <cp:lastModifiedBy>UNCW</cp:lastModifiedBy>
  <dcterms:modified xsi:type="dcterms:W3CDTF">2009-04-08T16:43:59Z</dcterms:modified>
  <cp:revision>16</cp:revision>
  <dc:subject/>
  <dc:title>Understanding and Increasing Student Motivation</dc:title>
</cp:coreProperties>
</file>